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F88-4C19-4AE6-8F70-A7271D45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897-B07C-4E58-9E03-66C6DBD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CFF-8EF8-420C-BCAD-497EFA25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EF9-4806-4C51-8261-1E0A1A6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997-B41D-417C-A706-10A02D09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C293-2B0E-49CD-A6E8-8014BD65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C080-74E3-41A0-87A0-EB1F1D3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0A6D-5B99-45FC-9D6D-3D79DE0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90B-FD1C-4DD5-9B95-9D8B0A2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66F-90FD-43C3-86C8-DEB89130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C7F7-F4A0-4968-B121-E196C20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C75-90A5-4C9B-9763-E8BE3A7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AA39-6575-45AD-889F-7BA3ABF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C43-8F97-44D6-92A7-15BEFDB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C735-5ADD-4263-9CF2-77AA5A96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A7B-7681-435B-9867-B33144FC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9AF8-FD19-4D8C-8213-9C12CEF1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B57-C4B4-431B-9192-CCDBB03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D0E-9236-43FA-BAA4-1A0DD39D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980-A7A9-40EC-9D07-B5A2185E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611-B799-4818-8A4E-44C58E7F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787-49C4-464A-9515-46D302D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EB6-528E-47FA-9479-CC9D41C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541-15D0-4D57-B63B-3B10D02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32FDE-4E91-4E7F-A254-CEF60F63E8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846C7-D665-4807-B3AE-4407C799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DC3AE-C552-4DC2-AC85-F69EA7F814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11FF4-315E-41B5-9351-06F0A422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lyfamilyedun321.wikispaces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allwisher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964880"/>
            <a:ext cx="7772400" cy="893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Edun 32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ssion 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67840" y="1828440"/>
            <a:ext cx="88758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hfedun321fa2011.wikispaces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53800"/>
            <a:ext cx="779148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ages of Social Stud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810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one word describes your experience with social studies as an elementary studen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870280" y="5823000"/>
            <a:ext cx="5378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Lucida Sans Unicode"/>
                <a:hlinkClick r:id="rId1"/>
              </a:rPr>
              <a:t>http:// www.wallwish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566720" y="4130640"/>
            <a:ext cx="61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nk back…..and sha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9536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Social Stud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egrated study of the social sciences and humanities to promote civic compe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 rot="19938600">
            <a:off x="699480" y="3917520"/>
            <a:ext cx="16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 rot="1263000">
            <a:off x="1779480" y="4456080"/>
            <a:ext cx="14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ae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 rot="20653200">
            <a:off x="1788840" y="52531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 rot="1147200">
            <a:off x="3993840" y="50544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20364600">
            <a:off x="2935080" y="38336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 rot="1262400">
            <a:off x="4285800" y="3771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 rot="1012200">
            <a:off x="5533920" y="35654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 rot="20251200">
            <a:off x="6321240" y="3946320"/>
            <a:ext cx="20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 rot="1309800">
            <a:off x="5792400" y="510984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 rot="20466600">
            <a:off x="5033880" y="4375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 rot="19995600">
            <a:off x="3254400" y="438588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2170080" y="612792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3735360" y="612936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5778360" y="6129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6920" y="477360"/>
            <a:ext cx="68706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91040" y="5987520"/>
            <a:ext cx="45957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ational Council for the Social Studies (NCS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89000" y="183024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acquire knowledge from the social sciences, history and huma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717480" y="2514600"/>
            <a:ext cx="67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develop skills to think and to pro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022400" y="336852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develop appropriate democratic values and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593720" y="424980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have opportunities for citizenship/social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95200"/>
            <a:ext cx="68706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s&amp;  NCL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720" y="1324080"/>
            <a:ext cx="81057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eachers are to teach and students are expected to know(content) and do(performanc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onal Standards and State Standards (PA &amp; NJ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an orphan…reading,math,  writing, science are prior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531360"/>
            <a:ext cx="6870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 with making AY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connects reading and writing and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lit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-based activ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40" y="996480"/>
            <a:ext cx="77392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books, Technology &amp;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2360" y="1752480"/>
            <a:ext cx="769608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books have dominant role for instruction and based on state guidelines/topics/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erican History at certain gra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cient History at other gra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674640" y="4135320"/>
            <a:ext cx="7696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is considered to be a supplement ….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95200"/>
            <a:ext cx="68706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1520" y="1241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should make informed citizens able to  make wise deci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CLB  &amp; Standards are “suppose to” lead to higher achiev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onal curriculum and textbooks affect how social studies is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1:34:00Z</dcterms:created>
  <dc:creator>Rosemary Parmigiani</dc:creator>
  <dc:description/>
  <dc:language>en-US</dc:language>
  <cp:lastModifiedBy>rparmigiani</cp:lastModifiedBy>
  <dcterms:modified xsi:type="dcterms:W3CDTF">2011-08-25T15:02:41Z</dcterms:modified>
  <cp:revision>12</cp:revision>
  <dc:subject/>
  <dc:title>Edun 321</dc:title>
</cp:coreProperties>
</file>